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693-8983-4184-ADC3-A959BB64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99D-5FC5-414A-84B7-52883DF6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3E31-F91D-4D85-8E01-0874B816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10C1-1705-4749-8E14-2E411397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1E23-C1B3-4848-8883-73BD78A2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17AF-F472-4751-86F3-68D33785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3725-93EB-48A3-BE20-26A5757B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D109-4419-443A-ADA1-8AADDCE5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99EB-A586-4FA1-A761-78C5EBF4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F43B-29B8-43AB-A551-E170C168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E24A-597C-4401-A019-6128302A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C01-DCCB-4BFE-A095-4C1AF1EA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EFF6-C12A-427C-8C40-FD33EA21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51AE-95D6-4718-A9D3-A4B82742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8049-6A3C-4B0B-B82C-BF1FF508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6936-CC13-4BB1-96E2-1BDD4949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F3C0-4496-45ED-836A-E516635B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780-AC43-4DD8-B1F1-640AF2D8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3FF-EEC9-4EFA-9032-74A806DC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769-3BA8-4E75-BF79-C593242A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C00-D562-4040-91F8-3A71145A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64F-71BA-49D8-B465-E7361B3F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106-F4E8-4513-B730-AD3510BC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752-2F76-43CF-84F7-1AB4B180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DE0E-DB5A-43B8-B3CE-61E34520241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DDF6-DAFE-4990-BBD3-D15033B2D74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134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Тема: Возведение в степень произведения и степени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Повторе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Тес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полните пропуски так, чтобы утверждения были верны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При возведение в степень положительного числа получается  _______________________ чис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тепень отрицательного числа с четным показателем ___________ числ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тепень отрицательного числа с нечетным показателем __________ числ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При умножении степеней с __________     основание _____________________________,  а показатели степеней ________________________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При делении степеней с _____________ основание ____________, а из показателя степени  делимого 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________________________________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84240"/>
            <a:ext cx="864216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Свойства степене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любого чис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произвольных натуральных чисе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любого числ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0 и произвольных натуральных чисе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х, чт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&gt;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ых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извольного натурального чис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b)=a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го чис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извольных натуральных чисел       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)=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11280" y="2060640"/>
                <a:ext cx="215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71640" y="206064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4360" y="3500280"/>
                <a:ext cx="215640" cy="1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71640" y="35002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92360" y="35002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332000" y="3500280"/>
                <a:ext cx="215640" cy="1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47640" y="3573360"/>
                <a:ext cx="12708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58920" y="2060640"/>
                <a:ext cx="21600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06064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76360" y="2060640"/>
                <a:ext cx="214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26920" y="4365720"/>
                <a:ext cx="1969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87280" y="443700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03280" y="443700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48360" y="5300640"/>
                <a:ext cx="215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580000" y="530064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84360" y="5734080"/>
                <a:ext cx="215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87280" y="5734080"/>
                <a:ext cx="21600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900000" y="57340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03280" y="57340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Итог уро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йдите ошибк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x=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: a=a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y)=y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b)=a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16000" y="24210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692360" y="24210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135160" y="2349360"/>
                <a:ext cx="18432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042920" y="3213000"/>
                <a:ext cx="185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403280" y="3213000"/>
                <a:ext cx="195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87280" y="4221000"/>
                <a:ext cx="17496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32000" y="4221000"/>
                <a:ext cx="166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835280" y="4149720"/>
                <a:ext cx="1839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547640" y="5013360"/>
                <a:ext cx="1508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8000" y="5013360"/>
                <a:ext cx="1508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124000" y="3213000"/>
                <a:ext cx="195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6:01:35Z</dcterms:created>
  <dc:creator>Loner-XP</dc:creator>
  <dc:description/>
  <dc:language>en-US</dc:language>
  <cp:lastModifiedBy>Loner-XP</cp:lastModifiedBy>
  <dcterms:modified xsi:type="dcterms:W3CDTF">2012-12-06T17:53:38Z</dcterms:modified>
  <cp:revision>11</cp:revision>
  <dc:subject/>
  <dc:title>Слайд 1</dc:title>
</cp:coreProperties>
</file>